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C76EFA-2AF3-4245-9543-6817D6AF0E0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FF545D-F1D2-4BDD-9051-434BB28F12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D8C505-AD5A-406F-881F-249F49D24D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5D858F-385E-4FF7-92F6-6B41961937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5702D2-FDA2-4B8E-B48B-B7A77C8549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3FE5AE-7BD0-4A3E-BDCB-46877499E6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0C612A-B399-466E-A3B7-9941BE9349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912ADD-1069-4C4C-A3F9-8AB1B774B1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66ACAE-0CA1-45B2-B170-4EC8800EC3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9232EC-8D49-48A8-B0E5-0483893759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92C4DC-BDFD-45B2-A75B-F98DC472E1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6D61B5-EE54-47EB-9FBB-397B3D44D5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0CC128-7A71-4067-B19E-CDACE8B49A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C7722D-751B-486D-BF4B-476654A08B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DA9E03-F4EE-4138-AB6D-0E6E2B1C2C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1A4A35-3422-468C-87E7-886C76831A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9A2E55-858D-4F2B-8F37-5DAFC86B89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9BEDA2-92E7-47E7-9B38-4F77E6725B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05E190-CE3E-4997-82FC-086526259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74D1F6-9194-4652-9C9E-14172056B1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B3D-D1B3-445D-910B-2323001B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CA9-4A66-434F-8E29-1F73F24E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C47-BC52-469E-A948-C92B36B3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EC4-AEAD-417D-A5D0-EEF6B504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27E-F19C-439C-A264-C4687369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7AE-7B46-46C7-91C9-CD69D239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D243-F89C-4B99-ABB1-88DDA98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E28B-AB6C-409B-8B41-0BCB171B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846D-46F9-462C-8DCA-66B409DA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7B0F-AB90-4B07-A241-58358C04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1A71-E804-4D20-90D2-11282ABF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9C5-17ED-4CA7-BA47-CE927EC4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F66-8179-489F-9EEE-E29A5D56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99B9-3498-4052-A5CC-4F4DCCD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551D-0026-41A9-9091-BB2AF007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61A-E45D-4CE0-BB17-9AC00952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F15A-5E92-4811-A7CF-8EEA0630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81E-5A04-435E-B8B4-901E84A3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E5E-2BB7-4C71-9DCB-F515D0CC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C96-3724-41DE-893F-B68B448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DF0-238F-4A4C-BB69-C054A87F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201-5FB2-4BCC-87CB-13053C7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E8C-9570-40DD-9ACB-5CB78416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0F7-D287-40E1-B47A-214C47B3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B6A8-F30A-4EB8-B902-A34F9A7FF8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130D-A255-415B-9C8B-1A8A9687ED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Legislative Bran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Content Placeholder 7" descr="Screen shot 2012-10-11 at 1.46.55 PM.png"/>
          <p:cNvPicPr/>
          <p:nvPr/>
        </p:nvPicPr>
        <p:blipFill>
          <a:blip r:embed="rId1"/>
          <a:srcRect l="0" t="-23862" r="0" b="-23862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Content Placeholder 8" descr="Screen shot 2012-10-11 at 1.47.46 PM.png"/>
          <p:cNvPicPr/>
          <p:nvPr/>
        </p:nvPicPr>
        <p:blipFill>
          <a:blip r:embed="rId2"/>
          <a:srcRect l="0" t="-25501" r="0" b="-2550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Sess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ach Congress meets for </a:t>
            </a:r>
            <a:r>
              <a:rPr b="1" lang="en-US" sz="3200" spc="-1" strike="noStrike" u="sng">
                <a:solidFill>
                  <a:srgbClr val="cc0099"/>
                </a:solidFill>
                <a:uFillTx/>
                <a:latin typeface="Verdana"/>
              </a:rPr>
              <a:t>two year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divid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sess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odd numbered years following elec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ssion is in even, election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es are numbered – the Congress elected in 2008 is the 1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gress and officially began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ssion Tuesday, January 6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number of the current Congres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ender and Ethnicity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es: 427   House: 347; Senate: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s: 108   House: 88; Senate: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/Americans: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46;  Senate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panics: 3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34;  Senate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n: 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: 13;  Senate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verage 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 of Representatives:  5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ate:  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14</a:t>
            </a:r>
            <a:r>
              <a:rPr b="0" lang="en-US" sz="4400" spc="-1" strike="noStrike" baseline="30000">
                <a:solidFill>
                  <a:srgbClr val="003366"/>
                </a:solidFill>
                <a:latin typeface="Verdana"/>
              </a:rPr>
              <a:t>th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Congres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Content Placeholder 3" descr="Screen Shot 2016-01-12 at 1.08.20 PM.pn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35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l Qualific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itizen for at leas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7 yea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characteristics of memb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have been and are white 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ts of Lawy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ence in government (State or local leve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serve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2 year ter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435 members must be reelected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oth houses, the political party that contro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more than half of the seats is known as the majority par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ther is the minority par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ing control of a house of Congress has many advantages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80880" y="2286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Hou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" descr="Screen Shot 2016-01-12 at 12.58.33 PM.png"/>
          <p:cNvPicPr/>
          <p:nvPr/>
        </p:nvPicPr>
        <p:blipFill>
          <a:blip r:embed="rId1"/>
          <a:stretch/>
        </p:blipFill>
        <p:spPr>
          <a:xfrm>
            <a:off x="1165320" y="1295280"/>
            <a:ext cx="63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Screen Shot 2016-01-12 at 12.58.19 PM.png"/>
          <p:cNvPicPr/>
          <p:nvPr/>
        </p:nvPicPr>
        <p:blipFill>
          <a:blip r:embed="rId1"/>
          <a:stretch/>
        </p:blipFill>
        <p:spPr>
          <a:xfrm>
            <a:off x="762120" y="1981080"/>
            <a:ext cx="7111800" cy="2971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3"/>
          <p:cNvSpPr/>
          <p:nvPr/>
        </p:nvSpPr>
        <p:spPr>
          <a:xfrm>
            <a:off x="53352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rty Makeup of Sen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jority party provides the leadership of that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aker of the Hou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osen from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ird in li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Presidenc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er and majority party has significant power over the legislative proc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aker for the 1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gress is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Paul Ry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fter a vote tak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rk Twai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you were an idiot. And suppose you were a member of Congress.  But I repeat myself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at is expressed in this quo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hy are members of Congress subject to comments by people such as Jimmy Fallon, Jay Leno, Jon Stewart, etc.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Lead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leader of the maj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Kevin McCarthy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(R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W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assists the speaker and majority leader in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pping up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pport for legis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teve Scalise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 (R-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Leadership 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Leader – leader of the minority party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floor.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Nancy Pelosi (D-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ity Whip – assists the minority lead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Steny Hoyer (D-M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905120"/>
            <a:ext cx="871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state is guaranteed at lea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 delega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he Ho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representatives is determin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 is counted every 10 years by th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cens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atives are elec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tri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in states with more than 1 representativ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5638680"/>
            <a:ext cx="54864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eorgia"/>
              </a:rPr>
              <a:t>Representation Changes after the 2000 Censu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2" name="Picture Placeholder 2" descr="Screen Shot 2015-04-21 at 10.37.30 AM.png"/>
          <p:cNvPicPr/>
          <p:nvPr/>
        </p:nvPicPr>
        <p:blipFill>
          <a:blip r:embed="rId1"/>
          <a:srcRect l="326" t="0" r="682" b="0"/>
          <a:stretch/>
        </p:blipFill>
        <p:spPr>
          <a:xfrm>
            <a:off x="932040" y="612720"/>
            <a:ext cx="718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440" y="4659480"/>
            <a:ext cx="548640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eats gained/lost after 2010 censu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4" name="Picture Placeholder 4" descr="Screen Shot 2015-04-21 at 10.38.06 AM.png"/>
          <p:cNvPicPr/>
          <p:nvPr/>
        </p:nvPicPr>
        <p:blipFill>
          <a:blip r:embed="rId1"/>
          <a:srcRect l="-316" t="0" r="-154" b="0"/>
          <a:stretch/>
        </p:blipFill>
        <p:spPr>
          <a:xfrm>
            <a:off x="831960" y="612720"/>
            <a:ext cx="7394400" cy="4114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03-201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7" name="Content Placeholder 3" descr="Screen shot 2012-10-11 at 9.19.54 AM.png"/>
          <p:cNvPicPr/>
          <p:nvPr/>
        </p:nvPicPr>
        <p:blipFill>
          <a:blip r:embed="rId1"/>
          <a:srcRect l="-84083" t="0" r="-84083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Congressional Map from 2012 - 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9" name="Content Placeholder 3" descr="Screen shot 2012-10-11 at 9.28.52 AM.png"/>
          <p:cNvPicPr/>
          <p:nvPr/>
        </p:nvPicPr>
        <p:blipFill>
          <a:blip r:embed="rId1"/>
          <a:srcRect l="-86107" t="0" r="-86107" b="0"/>
          <a:stretch/>
        </p:blipFill>
        <p:spPr>
          <a:xfrm>
            <a:off x="912960" y="1905120"/>
            <a:ext cx="8110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ouse of Representa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ional districts are drawn by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pportionment occurs when reps are added/ta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cts are NOT to be drawn in a way that is advantageous for a certain group (political party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rrymandering – drawing an odd-shaped district for political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st Gerrymandered Congressional Distri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 for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at least 9 yea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Resident of the 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te, m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w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in government (state, House of Reps., etc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Senat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 of Off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ors ser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erms that las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Verdana"/>
              </a:rPr>
              <a:t>6 yea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/3 of the Senate is up for reelection every 2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Senators elected from each state for a tota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portance of 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mers believed Congress would be immensely importa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 article (and longest) of the Constitution is dedicated to the Legislative body of the government of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7" name="Content Placeholder 7" descr="Screen shot 2012-10-11 at 10.37.16 AM.png"/>
          <p:cNvPicPr/>
          <p:nvPr/>
        </p:nvPicPr>
        <p:blipFill>
          <a:blip r:embed="rId1"/>
          <a:srcRect l="-10156" t="0" r="-10156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2" descr="Screen Shot 2017-01-13 at 9.32.55 AM.png"/>
          <p:cNvPicPr/>
          <p:nvPr/>
        </p:nvPicPr>
        <p:blipFill>
          <a:blip r:embed="rId2"/>
          <a:srcRect l="0" t="1384" r="0" b="1384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9224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llinois</a:t>
            </a:r>
            <a:r>
              <a:rPr b="0" lang="ja-JP" sz="4400" spc="-1" strike="noStrike">
                <a:solidFill>
                  <a:srgbClr val="003366"/>
                </a:solidFill>
                <a:latin typeface="Verdana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 Senato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chard Durbin - (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to the Senate in 1996; from Spring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 for election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led Senate seat of mentor, Sen. Paul Si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my Duckworth – (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ed in 2016 by defeating incumbent Mark Kirk (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aq War veteran (lost both legs and partial use of right arm); Purple Heart recipient; retired as Lieutenant Colonel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 Assistant Secretary of the Department of Veterans Affa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33520" y="2792520"/>
            <a:ext cx="6324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ber of the House for 2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ried with a daugh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Lead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Lead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President of the Senate is the Vice President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United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votes in case of a t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is present in the Sena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Mike P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inued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y-to-day leader of the Senate is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President Pro Temp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rmally the most senior member of the majority par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as much power as the Speak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rrin Hatch 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R-P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Mitch McConnell (R-K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aj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John Cornyn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R-T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ority L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Chuck Schumer (D-N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Minority Leader (W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Dick Durbin (D-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nate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tionally Mand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8" descr="Screen Shot 2017-01-13 at 9.59.38 AM.png"/>
          <p:cNvPicPr/>
          <p:nvPr/>
        </p:nvPicPr>
        <p:blipFill>
          <a:blip r:embed="rId1"/>
          <a:stretch/>
        </p:blipFill>
        <p:spPr>
          <a:xfrm>
            <a:off x="4724280" y="3048120"/>
            <a:ext cx="2130480" cy="1371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Screen Shot 2017-01-13 at 9.55.06 AM.png"/>
          <p:cNvPicPr/>
          <p:nvPr/>
        </p:nvPicPr>
        <p:blipFill>
          <a:blip r:embed="rId2"/>
          <a:stretch/>
        </p:blipFill>
        <p:spPr>
          <a:xfrm>
            <a:off x="1752480" y="3048120"/>
            <a:ext cx="1600200" cy="1449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0"/>
          <p:cNvSpPr/>
          <p:nvPr/>
        </p:nvSpPr>
        <p:spPr>
          <a:xfrm>
            <a:off x="1371600" y="4724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i="1" lang="en-US" sz="1200" spc="-1" strike="noStrike">
                <a:solidFill>
                  <a:srgbClr val="ff0000"/>
                </a:solidFill>
                <a:latin typeface="Verdana"/>
              </a:rPr>
              <a:t>Mike P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Content Placeholder 3" descr="Screen Shot 2017-01-13 at 9.31.59 AM.png"/>
          <p:cNvPicPr/>
          <p:nvPr/>
        </p:nvPicPr>
        <p:blipFill>
          <a:blip r:embed="rId1"/>
          <a:srcRect l="0" t="24250" r="0" b="24250"/>
          <a:stretch/>
        </p:blipFill>
        <p:spPr>
          <a:xfrm>
            <a:off x="912960" y="1828800"/>
            <a:ext cx="8110440" cy="42670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ublican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mocratic Leadershi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8" name="Content Placeholder 3" descr="Screen Shot 2017-01-13 at 9.51.26 AM.png"/>
          <p:cNvPicPr/>
          <p:nvPr/>
        </p:nvPicPr>
        <p:blipFill>
          <a:blip r:embed="rId1"/>
          <a:srcRect l="0" t="3471" r="0" b="3471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ional Compens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gress:  $174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aker of House:  $223,5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ce President:  $230,7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ident Pro Tem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or Leaders:  $193,4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2372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Aaron Schock</a:t>
            </a:r>
            <a:br>
              <a:rPr sz="44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Resigned/Special Election to be held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7" name="Content Placeholder 6" descr="Screen shot 2012-10-11 at 8.56.30 AM.png"/>
          <p:cNvPicPr/>
          <p:nvPr/>
        </p:nvPicPr>
        <p:blipFill>
          <a:blip r:embed="rId1"/>
          <a:srcRect l="-501" t="0" r="-501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7" descr="Screen shot 2012-10-11 at 9.00.19 AM.png"/>
          <p:cNvPicPr/>
          <p:nvPr/>
        </p:nvPicPr>
        <p:blipFill>
          <a:blip r:embed="rId2"/>
          <a:srcRect l="0" t="-11615" r="0" b="-11615"/>
          <a:stretch/>
        </p:blipFill>
        <p:spPr>
          <a:xfrm>
            <a:off x="5043600" y="19051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 Salar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Special tax ded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ravel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ealth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Retirement Plan/Pens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$150,00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Franking Privile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Perks: Parking, Printing, et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920" y="838080"/>
            <a:ext cx="524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following questions on a piece of paper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601992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have completed the Preview, share your responses with a partner or with the cla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04920" y="88920"/>
            <a:ext cx="746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9"/>
          <p:cNvSpPr/>
          <p:nvPr/>
        </p:nvSpPr>
        <p:spPr>
          <a:xfrm>
            <a:off x="7021440" y="6546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3568-2BA8-4826-9295-927E0608858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0" y="544680"/>
            <a:ext cx="9144000" cy="0"/>
          </a:xfrm>
          <a:prstGeom prst="line">
            <a:avLst/>
          </a:prstGeom>
          <a:ln w="7632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80880" y="838080"/>
            <a:ext cx="7467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photograph and biography, what facts do you know about Congressman Schoc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ings about Aaron Schock do you think are typical for a member of Congress? What things might be atypic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his background do you think would help make Aaron Schock an effective legislator? Expl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y will you and some of your paren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ble to vote for Aaron Schock in this ele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aron Scho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7" name="Content Placeholder 3" descr="Screen shot 2012-10-11 at 9.06.06 AM.png"/>
          <p:cNvPicPr/>
          <p:nvPr/>
        </p:nvPicPr>
        <p:blipFill>
          <a:blip r:embed="rId1"/>
          <a:srcRect l="-59538" t="0" r="-59538" b="0"/>
          <a:stretch/>
        </p:blipFill>
        <p:spPr>
          <a:xfrm>
            <a:off x="912960" y="1905120"/>
            <a:ext cx="8110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9152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man Darin Lahood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9" name="Content Placeholder 2" descr="Screen Shot 2016-01-12 at 12.30.24 PM.png"/>
          <p:cNvPicPr/>
          <p:nvPr/>
        </p:nvPicPr>
        <p:blipFill>
          <a:blip r:embed="rId1"/>
          <a:srcRect l="6367" t="0" r="6367" b="0"/>
          <a:stretch/>
        </p:blipFill>
        <p:spPr>
          <a:xfrm>
            <a:off x="912960" y="1905120"/>
            <a:ext cx="3978000" cy="4190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idence:  Dunlap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ital Status:  Marri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Occupation:  Ill. State Senate, Tazew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te’s Attorney’s Office, Lawyer (Miller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l, and Trigg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vious Political:  Illinois State Sen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ducation:  Academy/Spalding High School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ras College, John Marshall Law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thdate:  8/12/1928; Peoria, 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gion:  Roman Cathol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80640" y="609120"/>
            <a:ext cx="81630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What makes for an effective    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   legislator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gres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Bi-cameral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aning 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two hou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 of Representatives – low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st to the people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representation based on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 – upper 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al state representation (2 per st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by </a:t>
            </a: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Article 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o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lt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eat Compromi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Connecticut Com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J plan favored equal representation for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ginia plan favored larger states with higher pop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8:41:23Z</dcterms:created>
  <dc:creator>Stephanie Fogarty</dc:creator>
  <dc:description/>
  <dc:language>en-US</dc:language>
  <cp:lastModifiedBy>olsonl olson</cp:lastModifiedBy>
  <cp:lastPrinted>2012-10-11T18:42:25Z</cp:lastPrinted>
  <dcterms:modified xsi:type="dcterms:W3CDTF">2018-01-16T13:56:18Z</dcterms:modified>
  <cp:revision>127</cp:revision>
  <dc:subject/>
  <dc:title>The Legislative Branch</dc:title>
</cp:coreProperties>
</file>